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8B3-700A-4697-8149-30680E06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915-837C-4F3A-9F36-F5F5DC31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C93-6059-4A7E-BDBC-D505651E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F3C-5B62-44FE-9B74-AE38DD41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310-C8B2-450D-8241-6A2BF429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AA0-5B13-4C2E-97F4-3061D417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77C-69F3-4E59-9CCE-C5AB7DBC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A40-0B33-47C9-9A11-FC5ABF50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556-CDF2-443D-9829-A5FB3B5F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C2B-8B34-4A09-AD4E-2D2BE006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C12-6A57-4F45-8486-AD058924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A88-8D39-4E11-91F9-29D1DEA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F0CFB-27DB-4111-8F91-AF3C3ABEA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57DC2-231D-4951-8CD8-75CBF0713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ia.gov/library/publications/the-world-factbook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ia.gov/library/publications/the-world-factbook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e6fdfa"/>
              </a:gs>
              <a:gs pos="100000">
                <a:srgbClr val="a2f7ec"/>
              </a:gs>
            </a:gsLst>
            <a:lin ang="5400000"/>
          </a:gradFill>
          <a:ln w="9360">
            <a:solidFill>
              <a:srgbClr val="31ab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sourcing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Fa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o Musk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iness Week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pdf- save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rguments for and against outrsour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gradFill rotWithShape="0">
            <a:gsLst>
              <a:gs pos="0">
                <a:srgbClr val="effde6"/>
              </a:gs>
              <a:gs pos="100000">
                <a:srgbClr val="c6f7a2"/>
              </a:gs>
            </a:gsLst>
            <a:lin ang="5400000"/>
          </a:gradFill>
          <a:ln w="9360">
            <a:solidFill>
              <a:srgbClr val="76ab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 Complete Asia Outsourcing Comparison Sh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 Evaluate Positives/ Negative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 Pages- Develop a company with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rpose: What are the positives and negatives of Outsourc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sential Questions:1) What advantages might a business have from outsourcing? What are some disadvantages?a.If you owned a business, how might you resolve the question of outsourcing or not? How would you respond to your critic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Outsourc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tart your dream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actors would you consider when deciding whether or not to outsour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CIA world Factbook Link from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3200" spc="-1" strike="noStrike">
                <a:solidFill>
                  <a:srgbClr val="008000"/>
                </a:solidFill>
                <a:latin typeface="Bernard MT Condensed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ctors would you look at when deciding whether or not to outsour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/ look under economics 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f8e1c"/>
                </a:solidFill>
                <a:uFillTx/>
                <a:latin typeface="Calibri"/>
                <a:hlinkClick r:id="rId2"/>
              </a:rPr>
              <a:t>https://www.cia.gov/library/publications/the-world-factboo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the factors for the United States on your ch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CIA world Factbook Link from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 east and Southeast Asia or In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f8e1c"/>
                </a:solidFill>
                <a:uFillTx/>
                <a:latin typeface="Calibri"/>
                <a:hlinkClick r:id="rId2"/>
              </a:rPr>
              <a:t>https://www.cia.gov/library/publications/the-world-factboo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/ look around- what would be the best fit for your company? 7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the factors for the 3 Asian countries on your chart.  (5 minu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you outsource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  Record 3 pros and 3 cons from the article you read on Friday.  6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Give 3 statistics of why you would outsource and 2 statistics of why you would not outsource from cia worldfactbook.  5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 on your wiki to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gradFill rotWithShape="0">
            <a:gsLst>
              <a:gs pos="0">
                <a:srgbClr val="effde6"/>
              </a:gs>
              <a:gs pos="100000">
                <a:srgbClr val="c6f7a2"/>
              </a:gs>
            </a:gsLst>
            <a:lin ang="5400000"/>
          </a:gradFill>
          <a:ln w="9360">
            <a:solidFill>
              <a:srgbClr val="76ab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What do you know about outsourc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Read: Business Week article: Commentary: Outsourcing Jobs: Is it Bad? 3)Create a T-chart-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Discussion: The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rpose: What are the positives and negatives of Outsourc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sential Questions:1) What advantages might a business have from outsourcing? What are some disadvantages?a.If you owned a business, how might you resolve the question of outsourcing or not? How would you respond to your critic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5:48:14Z</dcterms:created>
  <dc:creator>AWL Loaner</dc:creator>
  <dc:description/>
  <dc:language>en-US</dc:language>
  <cp:lastModifiedBy>AWL Loaner</cp:lastModifiedBy>
  <dcterms:modified xsi:type="dcterms:W3CDTF">2011-04-22T16:05:27Z</dcterms:modified>
  <cp:revision>2</cp:revision>
  <dc:subject/>
  <dc:title>Outsourcing: Pros and Cons</dc:title>
</cp:coreProperties>
</file>